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8.png" ContentType="image/png"/>
  <Override PartName="/ppt/media/image12.png" ContentType="image/png"/>
  <Override PartName="/ppt/media/image7.wmf" ContentType="image/x-wmf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3D8E-404A-4EB5-BFA2-448E33639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1A6A-40B1-4C9F-8825-2736D6BEA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19BD-961C-489C-8A5C-6CB30C2C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BD7C-4747-416D-ABFC-61222A4A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3B75-2961-4B71-90F4-7EE577DA6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DF8A-B0A9-4161-B7C6-41D9CE130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28A9-92AF-4F00-9830-6A8677EC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7AF9-DB03-4FD1-ABA0-B6FEB6B6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0F12-28D1-4FC8-BED7-565C85D9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E728-9EA8-46F0-83D1-F86F5D1F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DA92-0345-4CF9-B8A9-4AA2ACDD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EADE-3B6A-46BB-BECF-55DB41D6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E40F-F03A-450D-BE7E-C6CFF676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9761-0737-4179-AD7B-01E57FA0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13CA-BF52-45EE-9E33-46D3302D1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museum.jpg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3"/>
          <a:stretch/>
        </p:blipFill>
        <p:spPr>
          <a:xfrm>
            <a:off x="2816280" y="2279520"/>
            <a:ext cx="3511440" cy="40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lick_Lensington-SUIT.gif"/>
          <p:cNvPicPr/>
          <p:nvPr/>
        </p:nvPicPr>
        <p:blipFill>
          <a:blip r:embed="rId4"/>
          <a:stretch/>
        </p:blipFill>
        <p:spPr>
          <a:xfrm>
            <a:off x="2209680" y="4273560"/>
            <a:ext cx="609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52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North Americ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61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64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Nor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6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7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2" descr="C:\Documents and Settings\cstocke\Local Settings\Temporary Internet Files\Content.IE5\CHEN8LIR\MCj03978360000[1].wmf"/>
          <p:cNvPicPr/>
          <p:nvPr/>
        </p:nvPicPr>
        <p:blipFill>
          <a:blip r:embed="rId4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Rectangle 2"/>
          <p:cNvGrpSpPr/>
          <p:nvPr/>
        </p:nvGrpSpPr>
        <p:grpSpPr>
          <a:xfrm>
            <a:off x="2743200" y="378000"/>
            <a:ext cx="5029200" cy="768240"/>
            <a:chOff x="2743200" y="378000"/>
            <a:chExt cx="5029200" cy="768240"/>
          </a:xfrm>
        </p:grpSpPr>
        <p:pic>
          <p:nvPicPr>
            <p:cNvPr id="76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5029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743200" y="380880"/>
              <a:ext cx="5029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Nor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8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8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4" descr="C:\Documents and Settings\cstocke\Local Settings\Temporary Internet Files\Content.IE5\85YZK9Q3\MCSO01874_0000[1].wmf"/>
          <p:cNvPicPr/>
          <p:nvPr/>
        </p:nvPicPr>
        <p:blipFill>
          <a:blip r:embed="rId4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2"/>
          <p:cNvGrpSpPr/>
          <p:nvPr/>
        </p:nvGrpSpPr>
        <p:grpSpPr>
          <a:xfrm>
            <a:off x="2743200" y="378000"/>
            <a:ext cx="5029200" cy="768240"/>
            <a:chOff x="2743200" y="378000"/>
            <a:chExt cx="5029200" cy="768240"/>
          </a:xfrm>
        </p:grpSpPr>
        <p:pic>
          <p:nvPicPr>
            <p:cNvPr id="88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5029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743200" y="380880"/>
              <a:ext cx="5029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Nor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9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9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4" descr="C:\Documents and Settings\cstocke\Local Settings\Temporary Internet Files\Content.IE5\AZWRAVGT\MCj03978380000[1].wmf"/>
          <p:cNvPicPr/>
          <p:nvPr/>
        </p:nvPicPr>
        <p:blipFill>
          <a:blip r:embed="rId3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Rectangle 2"/>
          <p:cNvGrpSpPr/>
          <p:nvPr/>
        </p:nvGrpSpPr>
        <p:grpSpPr>
          <a:xfrm>
            <a:off x="2743200" y="378000"/>
            <a:ext cx="5029200" cy="768240"/>
            <a:chOff x="2743200" y="378000"/>
            <a:chExt cx="5029200" cy="768240"/>
          </a:xfrm>
        </p:grpSpPr>
        <p:pic>
          <p:nvPicPr>
            <p:cNvPr id="100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5029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743200" y="380880"/>
              <a:ext cx="5029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Nor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0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7"/>
          <p:cNvGrpSpPr/>
          <p:nvPr/>
        </p:nvGrpSpPr>
        <p:grpSpPr>
          <a:xfrm>
            <a:off x="5791320" y="6019920"/>
            <a:ext cx="2133360" cy="761760"/>
            <a:chOff x="5791320" y="6019920"/>
            <a:chExt cx="2133360" cy="761760"/>
          </a:xfrm>
        </p:grpSpPr>
        <p:sp>
          <p:nvSpPr>
            <p:cNvPr id="108" name="AutoShape 11"/>
            <p:cNvSpPr/>
            <p:nvPr/>
          </p:nvSpPr>
          <p:spPr>
            <a:xfrm>
              <a:off x="5791320" y="6019920"/>
              <a:ext cx="2133360" cy="761760"/>
            </a:xfrm>
            <a:prstGeom prst="rightArrow">
              <a:avLst>
                <a:gd name="adj1" fmla="val 50000"/>
                <a:gd name="adj2" fmla="val 68199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4"/>
            <p:cNvSpPr/>
            <p:nvPr/>
          </p:nvSpPr>
          <p:spPr>
            <a:xfrm>
              <a:off x="5867280" y="6324480"/>
              <a:ext cx="1676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7:32:06Z</dcterms:created>
  <dc:creator>Candy Stocker</dc:creator>
  <dc:description/>
  <dc:language>en-US</dc:language>
  <cp:lastModifiedBy>Candy Stocker</cp:lastModifiedBy>
  <dcterms:modified xsi:type="dcterms:W3CDTF">2011-08-09T15:04:17Z</dcterms:modified>
  <cp:revision>119</cp:revision>
  <dc:subject/>
  <dc:title>Museum of World Stuff</dc:title>
</cp:coreProperties>
</file>